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FE3-2E8D-48B1-9FFA-92640A29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486-AEE0-4518-B9A5-3BC6A85E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92E-2055-492B-A6D9-69D75625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68E-1621-4A36-A3CD-BC32D930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2E0E-DC8C-4BAD-A11C-56BFE129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38E-5EA8-4E1F-9533-406C49F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ADE5-2BF7-4428-BEB7-F15874A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F919-CB71-4134-A7A8-C23C54C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C72-B1E0-48AB-AFEB-F957F850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9F6-4438-458F-B8B5-834FC8D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2774-DDD1-4E17-84C1-4F67E60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8F1-E226-4D75-BF70-1B12DC9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1C73-3F77-4B83-BBD5-0501BAA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BA63-8CE3-4445-8030-956E5E1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84D-B320-44F1-8F7A-28081BA3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6F78-B543-4738-A78E-FF07AB1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307-FA6E-4D84-BF8E-DC5A0D5E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A69-CA95-4F3F-B1BB-FA1FD75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05E-610E-48BE-B6EC-3A67917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62A-3EDA-4101-8D02-AA6CBF4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F21-029A-417C-BF95-9113DD6D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A58-ED20-4A2B-80EB-3BA8AB1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E2E-49F6-4955-928A-4650963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1A6-AC43-4D63-BE5B-F95FEDD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BE1B-17D2-4551-BE7D-AA164C26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AA27-0E08-45F2-9EFA-DC867BE1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r. Rutt’s Lab Ti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066680" y="2133720"/>
          <a:ext cx="6858000" cy="39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685800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ata Visualiz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better to visually represent y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a better sense of how good your dat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identify outlier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s your understanding of the relationship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the most significant experimental erro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you think it’s a significa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you think i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 than other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t’s the most significant error empi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 Lab - how well does the data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ow your Work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rise/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2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id this number come from? What two points did you use? Why did you use these points as opposed to other points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o into too much detail though - showing one calculation is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xperiment is NEVER Ov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iversity, labs are often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’re halfway through, and it’s not working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annoying to start the lab over from the beginning, but it’s worth it for goo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your TA will be impressed if you can identify problems and solve them on the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accurate data is NOT a bad th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you get bad data. What do you do? Fudge it so the experiment works?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ask is to figure out what went wrong, fix it, and do the experimen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isn’t possible, the experiment didn’t work, nothing you can do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prof/TA will focus on y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n’t get caught up in technolo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required to learn a lot of different software - graphing, statistical, diagramm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et the technology become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explain in detail exactly the commands you used to find the line of be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focus on what the technology is telling you about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quantities should be ranges, not ex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hink the value is about 5 cm, and you’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’s between 4 and 6, record 5 +/-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51814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con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 about uncertainty when performing calculations on y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ooke’s Law Lab - let’s say m = 0.2 +/- 0.01 kg, x = .10 +/- .0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mg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k = 0.2(9.8)/.1 = 19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42360" y="4724280"/>
            <a:ext cx="95576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possible k = 0.21(9.8)/.09 = 2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possible k = 0.19(9.8)/.11 = 1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k = 19.6 +/- approximatel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con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ual accepted ways of incorporating uncertainty are more complicated than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n can we use uncertaint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rs, length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: if a scale gives you a reading of 5.0 kg, what is the uncertai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watch, Voltmeter, force met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hing that gives a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2505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about Uncertainty - “Human Error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write “human err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use traditional uncertainty, there’s always a better way to accou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iming a mass falling to the floor - you won’t be able to time it precisely, so how do you incorporate uncertai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uman 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multiple trials to find a rang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vs. Experimental Err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’ve incorporated uncertainty, you CANNNOT use those measurements as experiment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oke’s Law Lab - you can incorporate uncertainty to account for ruler measurement error, inaccurate masses, oscillation of spring. What errors are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rrors for the sake of err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lab reports often ask for 3 experimental errors, the goal is to hav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don’t write things like “we could have waited for the mass to stop oscillating” if you EASILY could have done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ata Visualiz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38080" y="2209680"/>
          <a:ext cx="723924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2392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17:49Z</dcterms:created>
  <dc:creator>David Rutt</dc:creator>
  <dc:description/>
  <dc:language>en-US</dc:language>
  <cp:lastModifiedBy>David Rutt</cp:lastModifiedBy>
  <dcterms:modified xsi:type="dcterms:W3CDTF">2009-04-22T13:45:01Z</dcterms:modified>
  <cp:revision>1</cp:revision>
  <dc:subject/>
  <dc:title>Mr. Rutt’s Lab Tips</dc:title>
</cp:coreProperties>
</file>